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6FF-A544-46A6-A687-4142D285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4D0-7947-49FD-A31D-D422D3E8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284-81E3-471C-B8F8-CD876261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B4F-6D88-44B1-8328-ED2A3FCD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1BEF-68CD-49E2-85B0-0B94E6A9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DF03-95D7-41F9-AF64-55BCBB35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7182-D878-4C6E-AA6D-D4667EE4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6322-F435-4241-9E2E-BAC5EC92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8A68-9C2C-4BE6-9AC5-8953D3E2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7AF4-6989-4EA5-ABD3-9454549E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4D43-2091-4A34-9F1F-8CB74EE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366-1E87-446C-87EA-12CB57D6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F8C9-CD52-449C-B8E2-52153454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66FC-750B-4A1B-807D-2B7B8F81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923B-CC05-4BF4-BAA5-31E56D7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843A-C23C-4EF0-8D4D-CE891BC3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899B-515E-43CB-936D-F3C6A87C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C20-AE04-4BA3-8B96-27DDB723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630-1657-49B8-AE12-AE16B9C9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A99-08EC-48BE-9EAF-2B1F0539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FF3-9AB0-4FD5-88DD-AA16ED2D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6BC-493B-4C49-9D91-049C7D8D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788-CDC9-4DB9-84F9-86B202BE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8E3-EAAD-48E6-9C07-64968CE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1915-1586-4A3D-A5C6-ACED745E74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52F9-EE3E-4E0C-B460-16BE460A93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32000" y="2033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UŁAMKI NA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SI LICZBOW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819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aznacz na osi liczbowej punkt A o współrzędn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767720" y="638280"/>
                <a:ext cx="271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1827360" y="2933640"/>
          <a:ext cx="5433840" cy="1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2933640"/>
                    <a:ext cx="543384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878280" y="3068640"/>
                <a:ext cx="244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851280" y="25671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0621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0621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06640" y="4419720"/>
            <a:ext cx="51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wskazuje na ile części należy podzielić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dcinek jednostkow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omiast jaka jest odległość punktu od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ze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CHEMAT ZAZNACZANIA UŁAMKÓW NA OSI LICZBOW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0920" y="139716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ysujemy oś liczb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808280"/>
            <a:ext cx="51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Zaznaczamy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unkt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dcinek jednostk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214720"/>
            <a:ext cx="73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Odcinek jednostkowy dzielimy na tyle części ile jest zapisane 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 tym przypadku mamy podzielony odcinek jednostkowy na 6 czę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159000"/>
            <a:ext cx="67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Zaznaczamy ułamek na osi liczbowej zaznaczamy 5 części tak jak mówi nam o ty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46280" y="4915080"/>
          <a:ext cx="5433840" cy="14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15080"/>
                    <a:ext cx="543384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411280" y="5087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5087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57720" y="5049720"/>
                <a:ext cx="244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9:26Z</dcterms:modified>
  <cp:revision>41</cp:revision>
  <dc:subject/>
  <dc:title>Slajd 1</dc:title>
</cp:coreProperties>
</file>